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126-77EE-4643-A03C-487D84F4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FA1-AEC3-4DED-8FB3-F001E49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4EC-E2E1-4344-A5BB-796F485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818-4B15-42C4-8FAE-E680B0BD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970-3BC5-48B0-8718-7A2574BB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5698-8F09-4DEA-B42B-50A62BB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E705-956A-4A90-A66B-3484B9D3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4D04-0001-4816-9AF6-F6794299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4AE6-339F-4136-89E3-2FA96FC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165-0FAA-48AF-B4A3-E236891C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619-A02D-419B-9E42-4D389576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E7B-D49E-4A49-A274-4E10092D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BB1-AB96-4A45-A85E-B1DC67D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4BC7-46DA-42C2-B64C-21EC00C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5E00-07AB-4540-9C05-0B9C83ED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734-0E3F-4C77-ADFB-FA55694F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AD2-A52F-46CC-8722-393FB39D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06952-CB5C-4A49-89CA-2C76CE75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C94E2-EEF2-4D36-971B-0261160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B54BD-B60F-422C-84BA-5369124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4FC2A-EF7D-4DBD-A9E4-542060F2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DAC41-3C48-484F-B526-6EFB5E48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88D-02F8-4A0E-8C1B-BE886446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3FD82-4E2B-4BB0-99A0-A3F8243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9340E-FEB8-4596-84DE-4C366E4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E9A38-E2C7-465B-9BBF-3A97B60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3D056-1ED3-4AC4-B6AD-C285E8A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51FE1-65EA-4E9A-B46B-F7796BD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89C9D-2163-43D2-94B3-BB7120E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411D1-ADAA-4672-99DC-F2714C69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B9E6-E100-4483-8651-50924890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A869-DCF7-4DAD-83A3-E69B539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DB6C-1AC3-4734-98EA-1E357A2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BD9-C901-4B91-9001-2FFEAAC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8156-E560-4867-9E2C-98F12A71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B1C1-D7F7-4365-BCDE-E68882E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B8ED-D9B2-47ED-B85B-A2A39EA2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24A4-74D8-42CA-A0C9-8A93ECF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A15C-FAE4-4BB7-A4E7-FA11B25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628E-E1D9-4E1A-A13C-ECF6BF3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1825F-9A3B-41C4-ABBC-F179B26E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1DB9-EA5B-4538-BABA-08AF8EF8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0B39-25F2-4911-B63D-B3153944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41F-6FD1-4224-9973-DC5A955F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2FD-C156-4D20-B90D-B04988F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21C-1DD4-4AD4-8386-2685FAC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66B-C8A5-4CA3-B75C-D3A4A27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336-D6D0-4FEB-888C-C430FDF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91E-5757-4C42-ADF1-ECB0588A861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A2A8-3293-4861-9159-7543FF09AA6A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165-B69F-48E4-AE99-834E6BBF275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62C-24F0-4C6D-9D75-AA5C1E4D0A7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Do Now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nswer the following question in complete sentences. Try to list at least three possibiliti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What might someone say to refute or disprove your argument?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424242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e67c8"/>
                </a:solidFill>
                <a:latin typeface="Arial Black"/>
              </a:rPr>
              <a:t>The Argumentative Essay</a:t>
            </a:r>
            <a:endParaRPr b="0" lang="en-US" sz="43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47560"/>
            <a:ext cx="80769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Uses evidence to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both 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 to refute the opposing argument.</a:t>
            </a:r>
            <a:endParaRPr b="0" lang="en-US" sz="4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1" name="Picture 5" descr="C:\Users\lgoodine\AppData\Local\Microsoft\Windows\Temporary Internet Files\Content.IE5\NZSFGQJ0\Web_Proof[1].jpg"/>
          <p:cNvPicPr/>
          <p:nvPr/>
        </p:nvPicPr>
        <p:blipFill>
          <a:blip r:embed="rId1"/>
          <a:srcRect l="19083" t="16849" r="15569" b="15442"/>
          <a:stretch/>
        </p:blipFill>
        <p:spPr>
          <a:xfrm>
            <a:off x="2895480" y="4114800"/>
            <a:ext cx="3505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1426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Counterclaim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47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67c8"/>
                </a:solidFill>
                <a:latin typeface="Arial"/>
              </a:rPr>
              <a:t>Use one paragraph for your counterclaim.  Also, 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Arial Black"/>
            </a:endParaRPr>
          </a:p>
        </p:txBody>
      </p:sp>
      <p:pic>
        <p:nvPicPr>
          <p:cNvPr id="345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762120" y="2514600"/>
            <a:ext cx="3659040" cy="3648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 claim made to offset or disprove another claim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2209680" y="3352680"/>
            <a:ext cx="49881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3712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chools should continue selling chocolate milk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hocolate milk has a lot of added suga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2" name="Picture 3" descr="C:\Users\lgoodine\AppData\Local\Microsoft\Windows\Temporary Internet Files\Content.IE5\NZSFGQJ0\8ozRoundBottles[1].jpg"/>
          <p:cNvPicPr/>
          <p:nvPr/>
        </p:nvPicPr>
        <p:blipFill>
          <a:blip r:embed="rId1"/>
          <a:stretch/>
        </p:blipFill>
        <p:spPr>
          <a:xfrm>
            <a:off x="2133720" y="4114800"/>
            <a:ext cx="5105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Physical education should be required by students everyday in school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Requiring physical education every day will make it more difficult for students to take other elective class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5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4648320"/>
            <a:ext cx="8077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Read and mark </a:t>
            </a: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hetorical devices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claims and counterclaims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, in the article “Failure to Ban Violent Video Games.”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Goodine, Lindsey</cp:lastModifiedBy>
  <dcterms:modified xsi:type="dcterms:W3CDTF">2015-02-10T12:45:59Z</dcterms:modified>
  <cp:revision>7</cp:revision>
  <dc:subject/>
  <dc:title>Writing Part 4:   Argument Writing</dc:title>
</cp:coreProperties>
</file>